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B64-D0CB-4A49-A7CF-E56037CE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DFE0-5E16-4505-BEB4-CFBE0185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D508-01CA-4B49-9ED6-F3E7145E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89A2-99B2-42EC-880B-241B0980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468-EDF0-4460-9945-B51432A0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09CA-C79B-4067-8925-CE9F6293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EEF4-3918-456B-93FE-10B7756B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A309-E41C-4478-9A89-91B8EC44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63F8-C030-448A-B056-8CB50C83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3FA-9956-45EA-9A19-902F99D5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865-7DF4-4CE9-8134-BC6EAB4C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AF11-37D3-4866-BA66-37CAC6EA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7193-D653-424F-B9C0-117CFA46BF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emo.fr/Media/Afrique_Occupation_colonial.gif" TargetMode="External"/><Relationship Id="rId2" Type="http://schemas.openxmlformats.org/officeDocument/2006/relationships/hyperlink" Target="http://www.memo.fr/Media/Afrique_Occupation_colonial.gif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colonies européennes en Afrique entre 1914 et 19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787480" y="1700280"/>
            <a:ext cx="3569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1341360" y="1844640"/>
            <a:ext cx="64612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360440" y="1268280"/>
            <a:ext cx="642312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ommerce triang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3280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des carte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26920" y="242100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www.memo.fr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/Media/Afrique_Occupation_colonial.g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monatlas.fr/Hist/ma/MA_1.html</a:t>
            </a:r>
            <a:br>
              <a:rPr sz="1600"/>
            </a:b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onatlas.fr/Hist/ma/MA_2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mgouralnik.over-blog.com/article-le-commerce-triangulaire-80716515.html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ZoneTexte 3"/>
          <p:cNvSpPr/>
          <p:nvPr/>
        </p:nvSpPr>
        <p:spPr>
          <a:xfrm>
            <a:off x="539640" y="602136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H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| H | C 3 |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Impérialisme et colonisation         Mai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50:41Z</dcterms:created>
  <dc:creator>* *</dc:creator>
  <dc:description/>
  <dc:language>en-US</dc:language>
  <cp:lastModifiedBy>Bernard Gasser</cp:lastModifiedBy>
  <cp:lastPrinted>2012-05-07T15:44:33Z</cp:lastPrinted>
  <dcterms:modified xsi:type="dcterms:W3CDTF">2012-05-23T16:03:02Z</dcterms:modified>
  <cp:revision>13</cp:revision>
  <dc:subject/>
  <dc:title>Les colonies européennes en Afrique entre 1914 et 1918</dc:title>
</cp:coreProperties>
</file>